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7BA-4AFF-480E-95B8-3099E3A7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514-575B-4FE4-85B6-1E9107D0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AB8-CB4D-413E-9251-CF1C80CE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B86-5426-4B5E-8CE4-D32EE4F3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FEB-28CD-4A75-BBDA-F3EF1F2D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72A-C604-454B-8CBD-164814C2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B0E-9A57-48AB-9D9D-A19B9FD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B74-400A-49CB-B5C4-8FC846B8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1C3-7E82-47F3-AA76-74AC5493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364-97E3-42B1-9F92-7DFD3206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A2E-0803-4125-872D-87909046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EA8-3D45-4513-9A24-9B3DA18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B0E9-46BA-4453-BEB9-0037067B5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odloga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-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спираторни систем такође ради под већим напором али је битно да се повећани дисајни капацитет повећава на рачун дубљег дисања а не на рачун броја респирација. Минутни респираторни волумен се повећава 5 до 10 пута код највећих оптер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5322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физичких вежби побољшава се и перисталтика дигестивног тракта, повећава се секреција желуца, убрзан је метаболизам, а посебно је изражено сагоревање масти и шећ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незитерапија условљава и промене на рефлексним релејним везама, како на нивоу спиналне етаже,тако и на вишем нивоу, а што доводи до стварања нових шема покрета и моторичке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валуација функција локомоторног а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8752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дужине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покрета у зглоб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ануелно тестирање мишићне сн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Ж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рапеутске вежб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азична техника-врсте веж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782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 сврсисходне,систем.п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доприносе очув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остављању или замени оштећене фу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50920" y="1811160"/>
            <a:ext cx="42498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412128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и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помогну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 са отп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а оптере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ремене мет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kow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F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at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jt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жбe у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успен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Vogelbac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Kenz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457200" y="2762280"/>
            <a:ext cx="403848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ас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нципи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абилизација проксималн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државање дисталних св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о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агани, глатки покрети, без истез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- одржавање физиолошке дужин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одржавање обима покрета у зглобов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ферентација сегмента стимулацијом проприоцеп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имулација трофике и реф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према за активне ве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нтра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веж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литаве одузе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апаљенски реумати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о потпомогнут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терапе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здравим екстремит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Принцип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бјаснити болеснику шта да ради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јачањ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ужити минималну помоћ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преду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збегавати употребу др мишића        коорд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ратак одмор после сваког по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инц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етаљно показати све фазе веж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озирати теж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ацијент не сме бити 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бољшање координ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већање брз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аутома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општа издржљи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са оптерећењ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терећ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произвољно: експандер, мануе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одмерено: тегови, динаметар,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ули а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5-10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тракција маx оптерећења 6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е Лорме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финиција и појам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инези терапија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гр.кинеин-кретати се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ис-покрет) је област физикалне терапије, која се бави применом терапеутских  в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би ради  очувања,успостављања, развијања и замене функције локомотормог апа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о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81. гoд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п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шe: "Пoкр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o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л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у з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њ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тс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ст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стала медикаментозна средства не могу заменити покр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генс је покрет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љеви терапеутских веж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855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ржање или повећањ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има покрета у згл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аге миши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динациј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е и опште издрж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6000" y="171144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активит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је нефизиолошко стање. Оно је условљено имобилизацијом, углавном код посттрауматских стања или код парализе, због првенствено немогућности активног кретања. Инактивитет има последице које се огледају првенствено на апарату за кретање, а затим на кардиоваскуларном, респираторном и процесима метаболиз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тетички импулси се код овог стања не формирају јер нема активности а то значи одсуство аферентације и фасилитације ЦНС па то условљава гашење енграма и губитак координације и аутоматизма при кретању. Долази до атрофије мишића. Код гипсане имобилизације мишићи далеко брже пропадај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o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70., 1,5 до 3,0% дневно или 10 до 20% недељно). Да би ојачали ослабљене мишиће потребно је дупло дуже време од настанка хипотроф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97828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ра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повреда меких  ткива, прелома и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ортопед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деформације кичменог стуба (сколиозе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кифозе), стопала, поремећаји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коштавањ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стеотомија, артопластика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артродез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еур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ериферне и централне одузет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миопатије, миозит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931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е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запаљенски, ванзглобни, дегенеративни у р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гинекологија и акушер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перација, превенција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ипрема за безболан порођај, после порођа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е и после оперативних захвата у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неурохирургији, васкуларној, грудној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пштој хирургиј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Контра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560" y="185580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ок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о запа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крвар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бо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ТБ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их контраиндикација н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360" y="18558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ш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фебр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висок 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инсуфицијенција ср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убрега, јетр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тежа респиратор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090220101803"/>
          <p:cNvPicPr/>
          <p:nvPr/>
        </p:nvPicPr>
        <p:blipFill>
          <a:blip r:embed="rId1"/>
          <a:stretch/>
        </p:blipFill>
        <p:spPr>
          <a:xfrm>
            <a:off x="2195640" y="260280"/>
            <a:ext cx="45115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560" y="1855800"/>
            <a:ext cx="648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веђанин Линг (1776 - 1839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 први увео програм активних вежби у циљу лечења болесних стања локомоторног апарата (шведска гимнаст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основни битан елеменат кинезитерапије.Статичка и динамичка функција локомоторног апарата обезбеђује се мишићном контракцијом која је резултат сложеног процеса на разним нивоима организације моторне активности, а који започиње импулсом из моторних ћелија мождане коре.Импулси из мождане коре и супкортикалних формација доспевају кортикоспиналним (пирамидни систем и другим путевима кортикостриоретикуларни-екстрапирамидни систем) до кичмене мождине а затим  преко периферног моторног неурона да неуромишићне спојнице, а тиме и до мишићног вла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мотор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јединиц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сва мишићна влакна инервисана од стране једне моторне ћелије предњих рогова кичмене мождине; није анатомска него функционална једи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екстафузална влакна-покрет или стабилиз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интрафузална влакна-постуралну припрему покре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стереотип покрет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 аутоматизовани, лако изводљиви без већег утрошка енергије захваљујући “програмирању” екстрапирамидног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роз инактивитет се га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ине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инезиолог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аука која се бави проучавањем покрета. Она проучава биомеханику, као и функционалну анато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л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брзине (лакат, подизање на пр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наге (зглобови ГЕ и 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равнотеже (атланто-окципитални, ку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је стање раздражљивости мишића која тежи његовом скраћењу, без обзира да ли пост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врсте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метриј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тони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дела мишића према функ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нт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инерг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фикс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herinton-o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кон реципрочне инер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а кинезитерапије је активни покрет. Сваки физички напор пр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 је одговарајућим физиолошким променама на респираторном кардиоваскуларном као и нервном систе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иру мишићи користе само 15% минутног срчаног волумена, а при оптерећењу то се повећава 4 до 5 п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динамски захтеви срца се повећавају и то се може надокнадити првенствено повећањем минутног волумена и убрзањем пул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417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тренираних особа са здравим кардиоваскуларним системом ударни волумен се повећава, као и минутни волумен 2 до 3 пута. Такође се и пулс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повећати. Код максималних оптерећења потребно је у року од 5 до 10 минута да се пулс врати на стање пре оптерећ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01:41Z</dcterms:created>
  <dc:creator>Vojislav Ilic</dc:creator>
  <dc:description/>
  <dc:language>en-US</dc:language>
  <cp:lastModifiedBy>katarinaparezanovicilic@gmail.com</cp:lastModifiedBy>
  <dcterms:modified xsi:type="dcterms:W3CDTF">2020-09-26T16:55:46Z</dcterms:modified>
  <cp:revision>11</cp:revision>
  <dc:subject/>
  <dc:title>Slide 1</dc:title>
</cp:coreProperties>
</file>