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D31-B5B7-42A0-85CB-7002CD63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65CF-D2D2-4CAD-995A-C8519C07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71249-F7B9-4701-94DC-7DB97FE0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85855-6644-4688-B787-C764CC63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4A2B7-AAC0-43FC-A365-1D0636F5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2F333-27E9-4B4C-9B54-F7B56351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F0E89-376E-4A5C-A44F-A18181E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3A478-136C-4D00-A3BA-4B56A58C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8E09A-52A3-4BB7-81AF-23E75763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B7D84-5F19-46C8-BD83-EEE7AC73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96F04-17CB-4366-AD01-4A701406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6A920-3B2D-444D-9BFA-A771D633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7D0-E9B9-4518-AD24-B748C713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3DF7B-17D2-4159-B78B-3EC981A7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3F198-616D-42AE-A8C1-1B376E10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489BA-1F94-485E-93E2-96233169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5487B-B8E8-4FB1-877F-EFF07F40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80DDD-52D7-4EA5-88AE-36586033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45849-1F67-454F-898D-95BAA9D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49685-E08D-4853-AF20-D1B66F4B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E7015-334D-489F-BBA2-AF4E3FD6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C9ACF-6950-4CE5-93F1-786278A4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E1AF0-3AA5-47EC-8C15-E90B22A1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A12-63C0-4E70-B27A-6937F4F8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C4534-1300-4BF6-9E7A-270F55EE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AF7D2-6FC8-486F-BAE2-B3833DBF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290CD-D566-433B-BE7F-4A07954F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1D69B-8323-4BE4-ABBB-20A069C8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BD2B2-369B-4610-9492-FA8FF2DE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86B83-2F0E-437B-9CB9-920095EF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E55F0-8D91-4286-A969-15BD4ED9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10D75-38D7-476D-9DD1-4C4716A5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6D303-E3C1-46A3-9420-CD815F5B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14220-94D1-4B14-A8AC-D6160203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CE1C-A654-4F5F-9184-27B438DB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94D15-5A4C-42E1-9778-4052C454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79313-6667-46E6-8B08-2726A958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6364A-4575-4948-ACD3-B536AEA1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007FB-BA04-402E-B2D5-5E79B65A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BF150-BBA8-472C-8620-6B30E83A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F4B68-F8A3-439B-9B34-2C6968D3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B6F96-7861-4A21-B294-28B99962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983D3-1EE6-4C2B-B34E-29D3C4C8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40209-6A2C-4865-8BF7-F2B32700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30812-EA7D-4A3E-B032-C583707E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3028-E1F2-410C-8984-1964F0DF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A0BBB-77D3-409C-B14A-A95C2D66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88610-0095-4193-886C-51E4E1FE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22189-E8B8-42DE-BEC6-F09D18A7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5DCED-4227-46E2-A658-78579B70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F48E5-B65E-45FA-AE28-C371D895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6B6C5-A759-4FBF-BCCD-2EB8E4C6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0C120-460A-472E-8193-5877BB4C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A370D-406D-4A33-8FD7-2A84FEB5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51240-6B68-45A9-A8EA-45A76E0A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BD6EC-7582-45C9-9944-28C92EFD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F00D-4CE1-4711-B3C5-93FFE89C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873D0-4BDB-401B-A934-0DA61185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838E0-4467-4CCB-BC14-55AF1E67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51AC2-E68A-4CD7-940F-4F7B650C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A7D6F-EBED-4549-B4DD-502E0DB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1031B-A125-412A-B353-BAE00923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6DCBB-DC0A-4D1E-BB01-5231F3D9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F1060-E8C4-4398-9C14-466B2B58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DA7AE-0180-4C1C-9856-F0C06F16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3B01FE-E89B-40E6-9D39-416CDE21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C1242-7841-4E19-B223-83AC6A44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7128-D8BB-42BB-9E39-AA59DC68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39688-16F4-4969-8AB1-68143495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E6177-59C1-45F9-A114-4A5CD3A6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D0AB6-91C6-4342-969A-0E304E3B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68A9D-9F7F-4CC6-8FEC-C8FB7A93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BB286-B9B5-4DA9-BB14-F65A93F5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307AA-3114-403F-98BA-AD5A3D89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4C055-B98D-41B1-84EF-24FCDB25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0FDB4-6F51-470D-BA41-22650780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B6B3E-C7B4-453F-BD97-AE014CDE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58DAA-79E4-4BB4-9B05-38A7CBC3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5FAA-5C89-4F36-9A3E-530D9F31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065E67-DC59-4333-A3E6-4F75BD0B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945FC-9252-4DC3-A6AE-B6F5E29F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9D54E-A82E-4174-A972-CDA846FC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44BFF-2609-4893-80C1-6CA045CE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492B7-AECD-4A00-AE12-7D568770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D08B1-BE31-42BA-8543-0219B149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3D52E-8170-4EF1-950D-6DFC5351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6B1FC-8A24-46ED-B356-0FB34B25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632BA-9894-4C78-A269-24206637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E555F-3A39-4AD7-838C-F6561B8C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1E95-68D9-43E7-A385-0C9E27AF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6187F-D596-423C-A644-D7AB58D1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DE728-5AAB-4BAA-B296-883FA40C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9C7148-8376-4432-9AB3-3AB4AA08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52C95-3A8E-40DA-AAE0-B3FA9D82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7FAAF-F45B-49BF-9586-E5C327A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D7FB0-3125-4E0E-AF1F-EEA50640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6C8F2-7E13-48A4-9F0D-E29EDA86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C9B58-23E2-45D1-9497-1AE1311C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971AB-BC3B-44DB-9CAC-FFB95B3D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2F02D-26F9-490E-888F-0884E2A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284B-E53D-4D8A-B560-1E96A0C1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032C9-71F1-4C7D-9022-CF23AA58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01DFD-FFEA-45F5-976D-34248998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42886-FD68-4191-B118-146658ED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35FD9-6716-44F2-9608-37C39AC3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C8C215-6E22-450B-BE57-0A3F9F7B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E0FF1-54B1-49E1-B9BD-11FEC0BC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F72E8-EF35-4465-A1FA-C75C82F3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75749-CA82-4187-89B4-A3438B73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1F17C-FB79-4355-9F7B-98EF0B21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FBE41-2BEB-427D-AB6B-412C2BA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C73-9B6E-4ED2-B58B-EF2A59BC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62B0-D7F5-497E-A3E9-10ED15A2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8A2FC-E93C-43C2-83EE-8E004B30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2B984-BCEB-407E-A9CB-A8C16BD2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08ABA-9C0A-4C69-A6FF-6DC5805E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F9644-1D54-4087-824B-7551C945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281C8-6ACF-4FC0-B379-D6687AE2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32D3B-FC28-4EF1-AD56-42724597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AD84BB-09A4-4BD2-9815-02201101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C41E8-2330-4DE9-9C25-47569C55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7110A5-C5E3-46EB-AF2A-34EC5566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2417D-F562-48AA-9100-B3A47909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0D14-3A88-4E80-9957-3D9B09A8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69B459-1793-447C-AF6A-79BE004A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C4C4D-7A0F-400A-8A7D-E5D1FD82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68DD54-4232-4CB2-BACA-44032ABD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D8BC3-F32C-4461-9EDC-C78C0BCE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D1A64-9663-4B01-816E-9CD849E9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7C9CF-0FB4-4AAE-B4A9-18EA77FC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7BDE4-123E-422B-9433-8F67C160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99FD-EADC-4DA7-9BA0-07860255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D4C-9C80-4028-9007-88F02D89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DF70-5E0C-4EE4-B8DF-301D7816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A9205-809C-45F1-B3F8-AC674E4B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8EA8-0B93-47B3-A24E-091084E2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ABA7-2D6A-4A17-80B4-25A9CF90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2348-0A5C-481F-BA55-BAD21656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2F0F-42D8-4BB5-81E9-8E914F3F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C86-192E-43E3-8A88-C0A8AFC2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2F610-61D3-410F-A942-AC5D683B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A204C-10FC-4C26-BF66-08AF8862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225F-C46F-4649-B97B-280EB3EA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1B7FC-7965-4D86-B18C-2F6E921F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4E19-D316-4777-967D-8FFDB7CC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446FA-EF8A-43B5-8322-9AA9B505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2548-15D2-4795-9683-44EE0A13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457C0-96CD-4E65-BCAF-45898A31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E7311-9C57-4211-8CE6-82D2A027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3DF73-10FB-48E2-B799-0B015A62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CCD-C568-4242-8FD7-6E2D016E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342D-3B86-4899-A273-935D7716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7E45-F1A9-49F7-9F09-D9266385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3B0C-EFEC-4608-89DB-1CE46AD4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52AB-F61E-48D3-8828-AA1D7D2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1F19-1BC6-4B08-A0DD-D211B8D5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5159-CD2B-4CA4-82FD-E572EFD5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601B-3086-450D-B302-8F51F138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8F19-3AE2-4F87-8461-764F515F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4339-C09B-40F9-BDE1-C1B5E080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AA3DD-C20B-46C4-A296-55197B86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6DB-1867-471F-A3C1-095775A0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FD86-E96E-4D0A-8AC2-9BD33F4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BBC4B-D4F2-40DF-B553-D7C82606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6D16A-DD38-43A7-A043-B5E8DE6E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FB3F2-192E-41F3-A4EE-D20BDF47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E599C-F95D-4BFA-A644-345635F0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8E116-42D0-4BC8-AB0A-9C58822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E8F0-BFA2-477E-A1C3-C8F93EC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F2E01-F754-4F43-99A8-A94B1E8A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BFD6-7917-4A99-9657-F334BDC9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A299C-E920-438A-AE19-D739A8B9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955-5603-48B1-9EE5-A70873AA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0F740-A397-429E-8B03-E4C822EC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85682-7076-4B86-9331-F30A1423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2BBDC-6E7D-417A-9952-1451C7EB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E0CC-5FA0-4A29-9E79-EF6F3FF1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F102A-AC1E-4F56-8689-161F80DD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F7CA8-BCF3-43D8-9464-3BA728B9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2F07F-1D7C-473C-813A-D06D7910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489F-B9C8-4AE7-BA66-D14853CD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9AF4-3B03-42C6-9F26-F8968642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B2C9F-6474-4207-A6A8-6536C13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1BF-4199-458A-9A30-17A33D7D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A11BC-C2C0-4566-A014-EDDDC9A8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C72E6-5302-499A-8BBF-0E2F8E68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5FBB9-81C7-46DA-8280-BF0A81CD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76A17-80D7-445F-8A00-D79C3B62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A14A0-BACD-4025-B111-0C401113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C99D9-C2B3-4842-92C6-71C409C1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51D8C-6E04-4165-AAA2-EF705B1F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6633B-F389-4B01-8AA7-F93E52E8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E9A4D-CF8F-41D1-A8E1-41F1D01D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7AAD0-0220-4DC6-808B-486BC826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C00-62F5-4B90-B53B-41160977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ACC27-15E8-4EBB-A9DD-40A10D3B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A4E59-2E0F-408A-B1EF-7D941B1E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D44A5-A231-4401-B9D0-F064F5AE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EBEB3-019D-4775-96DC-93DF5B55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79682-D052-4340-BA4B-82B5AC74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1302-B13F-4ACA-9266-30C985D9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5D223-208C-4A1A-8E6F-AC76992C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2FE2D-6D7E-41B8-9B59-7A418922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3A90E-994C-4B00-BC3B-A331A004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70A1E-27D1-489B-AEFC-B001BD85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0FF-6008-44A7-A2AC-4FC5BFC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2C79D-521F-4F6E-BC8A-13777A67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5DCBA-7ADE-4A78-B5EF-A8F65189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9927B-D67E-466E-B48D-829D0A39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80CA5-BF2C-4C7E-9E1D-2CA0911A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AE498-991C-4D70-9166-5DF9558C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991F5-57BC-4283-BF07-ECE4A72C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C56DE-E031-4487-8065-C08B38BD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5568E-7678-4195-ACE3-38E8EA2B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CD98B-8B1C-4A3E-A441-B8CA6F66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393C3-40ED-4635-9DA7-BBFE7874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283C5-C5C7-48D4-A0AA-C145A73DB6D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5C14E-0259-439D-B64C-74A6FBFFDE8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97C33-BF32-4525-A8E7-270E1C87D2A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C2EB3-07BF-4947-8F23-21E6ADFBACD9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4B286-9539-479A-88CA-7BA7970165C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0211F-1FF9-44CC-82B1-1E608EA0CEE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8C460-B75B-4FD8-AB39-164AE81619A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8C3F7-8DBC-490E-B9CE-758F510CE75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7940E-354C-430D-B8AD-11ACFE11856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7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8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345DD-4653-4AD7-8E4D-3D77094A5B2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41068-E36D-4BF0-B41C-32096044049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ADB2F-5C22-4C72-BEBE-4C15141B520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81737-17F1-4503-87D3-60B00945CF6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EE3BF-120E-47FB-BC5D-2216E4C5537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6F9AB-A6A7-4795-8027-D65F867999B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35281-653E-4749-ACDC-E196170BD69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F6709-9F93-44D0-984F-E2B6E4D92A1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E5D3F-D190-4A7F-9820-981B6DB76AC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58560" y="1213920"/>
            <a:ext cx="5359320" cy="279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Trebuchet MS"/>
              </a:rPr>
              <a:t>ОРТОТИКА И ПРОТЕТИК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5084280"/>
            <a:ext cx="610704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Доц. др Катарина Парезановић- Илић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71280" y="2336400"/>
            <a:ext cx="7272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Оптозе су помагала која служе за замену изгубљене функције одређеног сегмента локомоторног апарата, спречавају настанак контрактура и деформације зглоба врше корекцију деформација кичменог стуб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042920" y="227628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зе колен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за за кичмени стуб: </a:t>
            </a:r>
            <a:r>
              <a:rPr b="0" lang="sr-Latn-RS" sz="2000" spc="-1" strike="noStrike">
                <a:solidFill>
                  <a:srgbClr val="ffffff"/>
                </a:solidFill>
                <a:latin typeface="Trebuchet MS"/>
              </a:rPr>
              <a:t>Millwauke</a:t>
            </a: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 мидер,</a:t>
            </a:r>
            <a:r>
              <a:rPr b="0" lang="sr-Latn-RS" sz="2000" spc="-1" strike="noStrike">
                <a:solidFill>
                  <a:srgbClr val="ffffff"/>
                </a:solidFill>
                <a:latin typeface="Trebuchet MS"/>
              </a:rPr>
              <a:t>TLSO </a:t>
            </a: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мидер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стала помагала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педска обућ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за крет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у оквиру АДЖ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и техничке олакшице у кући и на радном мест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 и проте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899640" y="2336400"/>
            <a:ext cx="7704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имена протетских и ортотских средстава, представља супституцију изгубљених делова тела(протезе) или изгубљених функција (ортоз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отезе се користе након ампутације горњих и доњих екстремитет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отетичка рехабилитациј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71280" y="2336400"/>
            <a:ext cx="756108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Trebuchet MS"/>
              </a:rPr>
              <a:t>Услов је да пацијент х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ротетич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рехабилитациј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ј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ложен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нтердисциплинарни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задатак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циљем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н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аксимално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огућ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физиолош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онструкциј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активног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ретањ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ребала би да се спроведе до месец дана од ампутације.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00000" y="752040"/>
            <a:ext cx="71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зе протетичке рехабилит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ОПЕРАТИВ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ОПЕРАТИВ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ПРОТЕТИЧКА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А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ОПЕРАТИВНА</a:t>
            </a:r>
            <a:r>
              <a:rPr b="0" lang="hr-HR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ЦИЉЕВИ У ПРЕОПЕРАТИВНОЈ ФАЗИ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премит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есни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родиц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ланиран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мпутациј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атећ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ехабилитациј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такт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цијент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–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изиотерапеут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државањ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дициј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речавањ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трактур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ОСТОПЕРАТИВН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826560" y="2336760"/>
            <a:ext cx="799308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едставља период након ампутације екстремитет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Циљеви у постоперативној фази су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Смањење отока патрљк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Превенцију инфекциј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Спречавање развоја контрактур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ретман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нтомског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ко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ој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сихолош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дрш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есник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родиц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ЕПРОТЕТИЧК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33520" y="2336400"/>
            <a:ext cx="79992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дставља период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д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вршет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растањ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н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о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мен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Циљеви у препротетчкој фази су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прем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трљ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бав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/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андажирањ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инезитерапиј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владавањ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амосталног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магалом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ретањ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изањ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езависности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ДЖ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ланирање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е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бавк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ОТЕТИЧК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11280" y="220500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амосталн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влач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влач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о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вној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длоз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к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прек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и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тепениц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ед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стај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д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из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родно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кружењ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лазак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лазак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ут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вентуалн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ортск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ктивност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стављ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аљ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ндивидуални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инезитерапијски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ретманом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БАНДАЖИРАЊЕ ПАТРЉК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826920" y="2336400"/>
            <a:ext cx="8066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андажир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патрљка је поступак којим обликујемо патрљак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роводи се еластичном чарапом или еластичним завојем, увек се оставља отвор 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 врху патрљка да уочимо евентуалну промену боје коже.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јјача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је компресија на врху патрљка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мањ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дем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рж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раст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н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онизир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трофичн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мускулатур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викав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трљк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талн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тиса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бликов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6:18Z</dcterms:modified>
  <cp:revision>33</cp:revision>
  <dc:subject/>
  <dc:title>Balneoterapija</dc:title>
</cp:coreProperties>
</file>